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9.jpeg" ContentType="image/jpeg"/>
  <Override PartName="/ppt/media/image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4D15-C615-49FC-9FCC-CFB30406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D1F6-15AA-436D-B7C3-499A070C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2ACC-EB0D-48A1-98EC-936A19151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F60E-1C7F-4E8C-BB40-B55D69D74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5E65-7B0F-4B30-B29E-6A9CA68C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005D-264D-4FAD-8C04-1EDA46BD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C99A-3D0D-4F20-ADA8-F663F8C9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3B40-DFB6-438A-9F7E-1F1B3506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A2A0-12F1-4497-B623-A48EBFF5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8E75-F5FA-49C8-9139-31675BEE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454D-30E8-4657-BA3A-50EA3AD8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BDA7-EBE8-4E3D-BBE2-1D135D8E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3C07-F505-4C10-B539-E8347455B5DD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58920" y="2937960"/>
            <a:ext cx="4826160" cy="211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ловая игра для  молодых педагогов ДОУ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уть к успеху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28560" y="1825560"/>
            <a:ext cx="7886880" cy="20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пригласил всех родителей на родительское собрание, поместив информацию об этом на групповом стенде. Пришло два человека. Воспитатель недоволен. Родительское собрание пришлось перенести.  Чем можно объяснить происшедшее? Что предпринять в дальнейшем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www.nosh1.ru/uploads/post/image/51/4b2d86b9-18dc-4d3f-b273-ce988da4d03d.jpg"/>
          <p:cNvPicPr/>
          <p:nvPr/>
        </p:nvPicPr>
        <p:blipFill>
          <a:blip r:embed="rId1"/>
          <a:stretch/>
        </p:blipFill>
        <p:spPr>
          <a:xfrm>
            <a:off x="1420920" y="3916440"/>
            <a:ext cx="5586480" cy="2795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28560" y="1825560"/>
            <a:ext cx="7886880" cy="20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сборов на прогулку один из воспитанников вдруг вынул из кармана пальто записку, адресованную воспитателю группы, с просьбой матери не закаливать её ребёнка после дневного сна. Причина не указывалась. Вы выполнили бы просьбу родителя? Какими будут ваши действия в дальнейшем?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www.anivel.ru/xunanhux/8424"/>
          <p:cNvPicPr/>
          <p:nvPr/>
        </p:nvPicPr>
        <p:blipFill>
          <a:blip r:embed="rId1"/>
          <a:stretch/>
        </p:blipFill>
        <p:spPr>
          <a:xfrm>
            <a:off x="1819440" y="3983040"/>
            <a:ext cx="5038560" cy="271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28560" y="1441440"/>
            <a:ext cx="7886880" cy="21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временно не посещает по причине отпуска. По возвращению, мама обнаруживает, что их шкафчик занят другим ребенком. Мама начинает выяснять, предъявлять претензии к воспитателю. Как в данной ситуации вести себя воспитателю? Что можно предпринять для того, чтобы избежать конфликт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s://lh5.googleusercontent.com/proxy/Qj3hxCJsGvqEQnQIbLTY1FN04FE3QowJ3UOmv-HpB90-072y3HYYt_9movozIZNS0sSGbhf8O910tAYqznx3rwh4WnPfbQ-i7k-MhcuYgzL1_A=s0-d"/>
          <p:cNvPicPr/>
          <p:nvPr/>
        </p:nvPicPr>
        <p:blipFill>
          <a:blip r:embed="rId1"/>
          <a:stretch/>
        </p:blipFill>
        <p:spPr>
          <a:xfrm>
            <a:off x="2136600" y="3746520"/>
            <a:ext cx="4403880" cy="3002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4160" y="1709640"/>
            <a:ext cx="7886520" cy="224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 задание </a:t>
            </a:r>
            <a:br>
              <a:rPr sz="4100"/>
            </a:br>
            <a:r>
              <a:rPr b="1" lang="ru-RU" sz="4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ОКОДИЛ </a:t>
            </a:r>
            <a:br>
              <a:rPr sz="4100"/>
            </a:br>
            <a:br>
              <a:rPr sz="4100"/>
            </a:b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7" name="Picture 2" descr="http://cdn-nus-1.pinme.ru/tumb/600/photo/c5/4d/c54d9e6babda892b49a0c9a3ff43ea8a.jpg"/>
          <p:cNvPicPr/>
          <p:nvPr/>
        </p:nvPicPr>
        <p:blipFill>
          <a:blip r:embed="rId1"/>
          <a:stretch/>
        </p:blipFill>
        <p:spPr>
          <a:xfrm>
            <a:off x="2614680" y="3538440"/>
            <a:ext cx="3698640" cy="2633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4160" y="1709640"/>
            <a:ext cx="7886520" cy="16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alibri Light"/>
              </a:rPr>
              <a:t> </a:t>
            </a:r>
            <a:br>
              <a:rPr sz="4100"/>
            </a:br>
            <a:r>
              <a:rPr b="1" lang="ru-RU" sz="4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 задание </a:t>
            </a:r>
            <a:br>
              <a:rPr sz="4100"/>
            </a:br>
            <a:r>
              <a:rPr b="1" lang="ru-RU" sz="4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машка  на тему «Современный педагог ДОУ- какой он?»</a:t>
            </a:r>
            <a:br>
              <a:rPr sz="4100"/>
            </a:b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9" name="Picture 2" descr="http://kapelka.caduk.ru/images/romashka.png"/>
          <p:cNvPicPr/>
          <p:nvPr/>
        </p:nvPicPr>
        <p:blipFill>
          <a:blip r:embed="rId1"/>
          <a:stretch/>
        </p:blipFill>
        <p:spPr>
          <a:xfrm>
            <a:off x="2157480" y="3191040"/>
            <a:ext cx="5048280" cy="3349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4160" y="1709640"/>
            <a:ext cx="788652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- релаксация </a:t>
            </a:r>
            <a:br>
              <a:rPr sz="4500"/>
            </a:b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осылай и воспринимай уверенность»</a:t>
            </a:r>
            <a:br>
              <a:rPr sz="4100"/>
            </a:br>
            <a:br>
              <a:rPr sz="4100"/>
            </a:br>
            <a:br>
              <a:rPr sz="4100"/>
            </a:b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1" name="Picture 2" descr="http://images.easyfreeclipart.com/345/tuesday-may-10-2011-happy-0-comments-345744.jpg"/>
          <p:cNvPicPr/>
          <p:nvPr/>
        </p:nvPicPr>
        <p:blipFill>
          <a:blip r:embed="rId1"/>
          <a:stretch/>
        </p:blipFill>
        <p:spPr>
          <a:xfrm>
            <a:off x="2117880" y="2871720"/>
            <a:ext cx="4800600" cy="3300480"/>
          </a:xfrm>
          <a:prstGeom prst="rect">
            <a:avLst/>
          </a:prstGeom>
          <a:ln w="0">
            <a:noFill/>
          </a:ln>
        </p:spPr>
      </p:pic>
      <p:pic>
        <p:nvPicPr>
          <p:cNvPr id="72" name="свет звезды.mp3" descr=""/>
          <p:cNvPicPr/>
          <p:nvPr/>
        </p:nvPicPr>
        <p:blipFill>
          <a:blip r:embed="rId2"/>
          <a:stretch/>
        </p:blipFill>
        <p:spPr>
          <a:xfrm>
            <a:off x="7251840" y="5105520"/>
            <a:ext cx="1492200" cy="1266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9643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0" y="1877760"/>
            <a:ext cx="91440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лет назад в одном городе жил очень мудрый человек. К нему часто приходили люди за советом. Каждому из них он умудрялся дать очень хороший и правильный совет. Слава о его мудрости разнеслась повсюду. 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жды его слова дошли до еще одного человека, который тоже был мудрым и известным в округе. Этот человек тоже помогал другим людям. Ему нравилось то, что его считают самым мудрым и прислушиваются к его советам. И когда он узнал, что есть еще один мудрец, то стал злиться на него за то, что теряет свою известность. И он стал думать, как доказать другим людям, что на самом деле более мудрым является он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 он думал и решил: «Я возьму бабочку, спрячу ее между ладоней, подойду на глазах у всех к мудрецу и спрошу его: «Скажи, что у меня в руках?» . Он, конечно же, великий мудрец, поэтому он догадается и скажет: «У тебя в руках бабочка» . Тогда я его спрошу: «А какая это бабочка, живая или мертвая? » И если он скажет, что бабочка живая, тогда я легонько надавлю ее своими ладонями так, что когда я их раскрою, то все увидят, что она мертвая. А если он скажет, что бабочка мертвая, тогда я отпущу ее, и она полетит. И тогда все увидят, что он оказался не прав» . Так он и сделал. Взял бабочку, подошел к мудрецу и спросил его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кажи, что у меня в руках? Мудрец посмотрел и сказал: — У тебя в руках бабочка. Тогда он спросил мудреца: — Скажи, живая она или мертвая? Мудрец посмотрел ему в глаза, подумал и сказал: — Все в твоих рука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spiritualschool.ru/wp-content/uploads/2015/07/D0-9C-D0-BE-D0-BB-D0-B8-D1-82-D0-B2-D0-B0-D1-81-D1-82-D0-B0-D1-80-D0-B5-D1-8E-D1-89-D0-B5-D0-B3-D0-BE-D1-87-D0-B5-D0-BB-D0-BE-D0-B2-D0-B5-D0-BA-D0-B0-360x3601-1.jpg"/>
          <p:cNvPicPr/>
          <p:nvPr/>
        </p:nvPicPr>
        <p:blipFill>
          <a:blip r:embed="rId1"/>
          <a:stretch/>
        </p:blipFill>
        <p:spPr>
          <a:xfrm>
            <a:off x="0" y="0"/>
            <a:ext cx="2852640" cy="1878120"/>
          </a:xfrm>
          <a:prstGeom prst="rect">
            <a:avLst/>
          </a:prstGeom>
          <a:ln w="0">
            <a:noFill/>
          </a:ln>
        </p:spPr>
      </p:pic>
      <p:pic>
        <p:nvPicPr>
          <p:cNvPr id="75" name="3d7c27b5136685.mp3" descr=""/>
          <p:cNvPicPr/>
          <p:nvPr/>
        </p:nvPicPr>
        <p:blipFill>
          <a:blip r:embed="rId2"/>
          <a:stretch/>
        </p:blipFill>
        <p:spPr>
          <a:xfrm>
            <a:off x="7743960" y="0"/>
            <a:ext cx="1400040" cy="1400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5980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8560" y="1825560"/>
            <a:ext cx="78868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900igr.net/datas/literatura/Bednaja-Liza/0020-020-Spasibo-za-vniman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176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 задание</a:t>
            </a:r>
            <a:br>
              <a:rPr sz="4500"/>
            </a:b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Разминка 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5" name="Picture 2" descr="https://i.ytimg.com/vi/uOTaTx2Grj0/maxresdefault.jpg"/>
          <p:cNvPicPr/>
          <p:nvPr/>
        </p:nvPicPr>
        <p:blipFill>
          <a:blip r:embed="rId1"/>
          <a:stretch/>
        </p:blipFill>
        <p:spPr>
          <a:xfrm>
            <a:off x="1427040" y="3048120"/>
            <a:ext cx="5765760" cy="3578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98360" y="307440"/>
            <a:ext cx="8756640" cy="58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 принадлежит ведущая роль в воспитании ребенка-дошкольника?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емь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законодательные документы, в которых обозначена приоритетная роль семьи в воспитании ребенк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Конституция РФ, Закон «Об образовании», Конвенция о правах ребенка, Семейный кодекс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м заключается роль детского сада в воспитании детей?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мочь, поддержать, направить, дополнить воспитательную деятельность семь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их областях знаний должен быть компетентен педагог для полноценного общения с родителями?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едицина, педиатрия, физиология, психология, педагогика, риторика, и т.д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формы работы с семьей?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одительские собрания, анкетирование, письменные и устные консультации, беседы, дни открытых дверей, родительская почта, оформление стендов, приглашение на занятие, проведение общих досугов с приглашением родителе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ми принципами должен руководствоваться воспитатель в своей профессиональной деятельности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. подход, учет возрастных особенностей, гуманизм, открытости, конфендициальности и т.д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формы работы с детьми?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од, совместная, групповая, подгрупповая, инивидуальная, экскурсии, круглый стол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880" cy="203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 задание </a:t>
            </a:r>
            <a:br>
              <a:rPr sz="4500"/>
            </a:b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Упражнения на развитие коммуникативности педагога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8" name="Picture 2" descr="http://engsuccess.ru/wp-content/uploads/2012/03/013_post_communication.jpg"/>
          <p:cNvPicPr/>
          <p:nvPr/>
        </p:nvPicPr>
        <p:blipFill>
          <a:blip r:embed="rId1"/>
          <a:stretch/>
        </p:blipFill>
        <p:spPr>
          <a:xfrm>
            <a:off x="2216160" y="3429000"/>
            <a:ext cx="4702320" cy="334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пражнение 1 «Кто эта маска?»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67800" y="1539720"/>
            <a:ext cx="5394600" cy="518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Calibri"/>
              </a:rPr>
              <a:t>Цель: 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Развивать умение производить впечатление в соответствии с выбранным образом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редлагаю разыграть образы родителей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«РУБАХА — ПАРЕНЬ»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«ВЕЧНО НЕДОВОЛЬНЫЙ»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«СОМНЕВАЮЩИЙСЯ»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«ИНТЕРЕСУЮЩИЙСЯ»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Желающие выбирают по  образу, называть вслух не надо, только разыграть, остальные участники  угадывают  тот образ, который вы изображаете. Участники могут задавать вопросы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900igr.net/datai/mkhk/Karnavaly/0002-003-TSeli-i-zadachi.png"/>
          <p:cNvPicPr/>
          <p:nvPr/>
        </p:nvPicPr>
        <p:blipFill>
          <a:blip r:embed="rId1"/>
          <a:stretch/>
        </p:blipFill>
        <p:spPr>
          <a:xfrm>
            <a:off x="5413320" y="2274840"/>
            <a:ext cx="3610080" cy="2571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пражнение 2 «Искусство общения»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28560" y="1243080"/>
            <a:ext cx="788688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Задание: Подготовить короткий комментарий к тезисам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Инструкция: Перед каждым участником игры лежит тезис. Необходимо прочитать его и подготовить короткий комментарий к нему. Могут высказываться все участники игры. 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Calibri"/>
              </a:rPr>
              <a:t>Тезисы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Доверительное общение между воспитателем и родителями воспитанников не может быть навязано, оно должно возникнуть как естественное желание другой стороны. 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реобладание оценочного стиля общения становится серьезным источником конфликтов между воспитателем и родителям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Родители должны услышать то, что сказал им воспитатель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Если вы видите лицо собеседника без улыбки, улыбнитесь ему сам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informvest.net/wp-content/uploads/2016/01/obshenie.gif"/>
          <p:cNvPicPr/>
          <p:nvPr/>
        </p:nvPicPr>
        <p:blipFill>
          <a:blip r:embed="rId1"/>
          <a:stretch/>
        </p:blipFill>
        <p:spPr>
          <a:xfrm>
            <a:off x="3071880" y="5386320"/>
            <a:ext cx="6072120" cy="1471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4160" y="1709280"/>
            <a:ext cx="7886520" cy="155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 задание  </a:t>
            </a:r>
            <a:br>
              <a:rPr sz="4500"/>
            </a:b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ббревиатуры</a:t>
            </a:r>
            <a:br>
              <a:rPr sz="4100"/>
            </a:b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Picture 2" descr="http://is2.mzstatic.com/image/thumb/Purple/v4/68/8b/a7/688ba7f4-548f-d2c1-7767-13cdfadb237a/source/512x512bb.jpg"/>
          <p:cNvPicPr/>
          <p:nvPr/>
        </p:nvPicPr>
        <p:blipFill>
          <a:blip r:embed="rId1"/>
          <a:stretch/>
        </p:blipFill>
        <p:spPr>
          <a:xfrm>
            <a:off x="2614680" y="3260880"/>
            <a:ext cx="4097160" cy="329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Объект 2" descr=""/>
          <p:cNvPicPr/>
          <p:nvPr/>
        </p:nvPicPr>
        <p:blipFill>
          <a:blip r:embed="rId1"/>
          <a:stretch/>
        </p:blipFill>
        <p:spPr>
          <a:xfrm>
            <a:off x="622440" y="628560"/>
            <a:ext cx="7899120" cy="5553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4160" y="1709280"/>
            <a:ext cx="7886520" cy="155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 задание </a:t>
            </a:r>
            <a:br>
              <a:rPr sz="4500"/>
            </a:b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е педагогических ситуаций мозговым штурмом </a:t>
            </a:r>
            <a:br>
              <a:rPr sz="4100"/>
            </a:b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9" name="Picture 2" descr="http://25mb.ru/img/picture/Oct/08/9b016f1989df6fc39ba73ba7e4353b91/1.jpg"/>
          <p:cNvPicPr/>
          <p:nvPr/>
        </p:nvPicPr>
        <p:blipFill>
          <a:blip r:embed="rId1"/>
          <a:stretch/>
        </p:blipFill>
        <p:spPr>
          <a:xfrm>
            <a:off x="1928880" y="3002040"/>
            <a:ext cx="5197320" cy="3146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1T11:00:06Z</dcterms:created>
  <dc:creator>Павел</dc:creator>
  <dc:description/>
  <dc:language>en-US</dc:language>
  <cp:lastModifiedBy>МДОУ 23</cp:lastModifiedBy>
  <dcterms:modified xsi:type="dcterms:W3CDTF">2016-10-20T09:14:54Z</dcterms:modified>
  <cp:revision>19</cp:revision>
  <dc:subject/>
  <dc:title>Name of  presentation</dc:title>
</cp:coreProperties>
</file>